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A81-8710-4DCB-9B99-2CCFD0D8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E37-2D3B-4630-8952-ECF5F1F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A16-A2BE-45E5-8731-F507FE73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372-CBD6-4D55-9342-6A986FB3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2909-A7CC-4509-9753-B0D33F1B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2515-9746-457C-A065-EA1E66CC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4785-DBD9-4599-9CB4-9670CEA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D40E-DDE2-4FF3-A140-F36DDD9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9B5F-80B3-4BEB-B7ED-1F5004AB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D42C-7B5D-47E9-AE1A-73AC97B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82CF-5247-41BD-8B72-887A3FC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1D1-33EC-428E-8DA8-B2225038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D926-CC2F-450B-88F3-58E49EAF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4BB1-2B41-4248-997D-1035E5A7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C1B2-C866-46BD-B0D3-B234E4C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EF2F-9162-4AEC-8184-0E887FB7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C72-D553-4BAB-B9E8-FFA25825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599-183D-4BFB-A581-B1929983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86B-B431-4549-841C-3D1A2465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EEF-BADB-426D-ACA2-4413890A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72E-DE81-4FA8-90BC-242745E9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648-5368-4867-B3EB-96B931E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04C-6BBD-41E0-9FED-EE6AB69F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4B7-A361-492C-AC55-5FAC7171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EC73-0DB9-4CAB-863B-DB4C61B750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89DB-1E3E-4081-B478-EB61AA80F9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7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333399"/>
                </a:solidFill>
                <a:latin typeface="Tahoma"/>
              </a:rPr>
              <a:t>PROGRAMMATION ET RESOLUTION </a:t>
            </a:r>
            <a:br>
              <a:rPr sz="3500"/>
            </a:br>
            <a:br>
              <a:rPr sz="3500"/>
            </a:br>
            <a:r>
              <a:rPr b="0" lang="fr-FR" sz="3500" spc="-1" strike="noStrike">
                <a:solidFill>
                  <a:srgbClr val="333399"/>
                </a:solidFill>
                <a:latin typeface="Tahoma"/>
              </a:rPr>
              <a:t>D’UN CASSE-TETE : RUSH HOUR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méliorations du program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28600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mélioration de l’algorithme de ré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mélioration de la génération de configurations aléato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daptation du programme en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jout de nouvelles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jout d’une mu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59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050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2590920"/>
            <a:ext cx="49532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ésentation du je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 graph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ésolution du casse-tê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méliorations possi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057400"/>
            <a:ext cx="4343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333399"/>
                </a:solidFill>
                <a:uFillTx/>
                <a:latin typeface="Tahoma"/>
              </a:rPr>
              <a:t>Jeu origin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ociété Binary 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une grille 6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12 voitures dont 1 rou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4 camions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40 cartes de configur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position de la sortie en face de la 3</a:t>
            </a:r>
            <a:r>
              <a:rPr b="0" lang="fr-FR" sz="22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2057400"/>
            <a:ext cx="3581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99"/>
                </a:solidFill>
                <a:uFillTx/>
                <a:latin typeface="Tahoma"/>
              </a:rPr>
              <a:t>Version généralisé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e grille 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éhicules de longueur quelcon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tion de la sortie arbitr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160" y="601344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But du jeu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ire sortir le véhicule rouge de la grille par la sor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Présentation du jeu Rush Hou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2465280"/>
            <a:ext cx="7086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j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cré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Interface graph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50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5320" y="1305000"/>
            <a:ext cx="751428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*NomCollection 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nom de la collectio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DebutConfigur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*Grille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hauteur     largeur    position de la sorti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*Vehicule 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   y    longueur    orientation    rouge vert bleu    image du véhic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FinConfigur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333399"/>
                </a:solidFill>
                <a:uFillTx/>
                <a:latin typeface="Tahoma"/>
              </a:rPr>
              <a:t>Exe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*NomCollection Rush Hour "exper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DebutConfigur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*Grille 6 6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*Vehicule 0 0 2 horizontale 255 255 0 Images/H2/vehiculeg.p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*Vehicule 4 1 2 horizontale 255 200 0 Images/H2/vehiculed.p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FinConfigur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333399"/>
                </a:solidFill>
                <a:latin typeface="Tahoma"/>
              </a:rPr>
              <a:t>Structure d’un fichier texte contenant    une collection de configurations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50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362320"/>
            <a:ext cx="4952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élisation sous forme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Résolution du casse-tê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graphe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50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Résolution du casse-tê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666880"/>
            <a:ext cx="4952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énération d’un graphe part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aphe3" descr="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3" descr=""/>
          <p:cNvPicPr/>
          <p:nvPr/>
        </p:nvPicPr>
        <p:blipFill>
          <a:blip r:embed="rId2"/>
          <a:stretch/>
        </p:blipFill>
        <p:spPr>
          <a:xfrm>
            <a:off x="1725480" y="5486400"/>
            <a:ext cx="712800" cy="1014480"/>
          </a:xfrm>
          <a:prstGeom prst="rect">
            <a:avLst/>
          </a:prstGeom>
          <a:ln w="0">
            <a:noFill/>
          </a:ln>
        </p:spPr>
      </p:pic>
      <p:pic>
        <p:nvPicPr>
          <p:cNvPr id="119" name="3" descr=""/>
          <p:cNvPicPr/>
          <p:nvPr/>
        </p:nvPicPr>
        <p:blipFill>
          <a:blip r:embed="rId3"/>
          <a:stretch/>
        </p:blipFill>
        <p:spPr>
          <a:xfrm>
            <a:off x="2438280" y="1371600"/>
            <a:ext cx="712800" cy="1014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00200" y="5410080"/>
            <a:ext cx="914400" cy="114300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5410080"/>
            <a:ext cx="9144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5410080"/>
            <a:ext cx="914400" cy="114300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5410080"/>
            <a:ext cx="990360" cy="114300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410080"/>
            <a:ext cx="914400" cy="114300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5410080"/>
            <a:ext cx="99036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5410080"/>
            <a:ext cx="9144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57040" y="185760"/>
            <a:ext cx="2426040" cy="6334200"/>
            <a:chOff x="2057040" y="185760"/>
            <a:chExt cx="2426040" cy="6334200"/>
          </a:xfrm>
        </p:grpSpPr>
        <p:pic>
          <p:nvPicPr>
            <p:cNvPr id="128" name="1" descr=""/>
            <p:cNvPicPr/>
            <p:nvPr/>
          </p:nvPicPr>
          <p:blipFill>
            <a:blip r:embed="rId4"/>
            <a:stretch/>
          </p:blipFill>
          <p:spPr>
            <a:xfrm>
              <a:off x="3733920" y="5486400"/>
              <a:ext cx="749160" cy="1033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9" name=""/>
            <p:cNvCxnSpPr>
              <a:stCxn id="121" idx="0"/>
              <a:endCxn id="128" idx="0"/>
            </p:cNvCxnSpPr>
            <p:nvPr/>
          </p:nvCxnSpPr>
          <p:spPr>
            <a:xfrm flipH="1" rot="16200000">
              <a:off x="3034800" y="4412160"/>
              <a:ext cx="96120" cy="2051640"/>
            </a:xfrm>
            <a:prstGeom prst="curvedConnector5">
              <a:avLst>
                <a:gd name="adj1" fmla="val -219924"/>
                <a:gd name="adj2" fmla="val 50000"/>
                <a:gd name="adj3" fmla="val -219924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pic>
          <p:nvPicPr>
            <p:cNvPr id="130" name="1" descr=""/>
            <p:cNvPicPr/>
            <p:nvPr/>
          </p:nvPicPr>
          <p:blipFill>
            <a:blip r:embed="rId5"/>
            <a:stretch/>
          </p:blipFill>
          <p:spPr>
            <a:xfrm>
              <a:off x="2374920" y="185760"/>
              <a:ext cx="74916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733840" y="1217520"/>
              <a:ext cx="1440" cy="149400"/>
            </a:xfrm>
            <a:custGeom>
              <a:avLst/>
              <a:gdLst/>
              <a:ahLst/>
              <a:rect l="l" t="t" r="r" b="b"/>
              <a:pathLst>
                <a:path w="1" h="94">
                  <a:moveTo>
                    <a:pt x="0" y="0"/>
                  </a:moveTo>
                  <a:lnTo>
                    <a:pt x="0" y="94"/>
                  </a:lnTo>
                </a:path>
              </a:pathLst>
            </a:custGeom>
            <a:noFill/>
            <a:ln w="316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451400" y="195120"/>
            <a:ext cx="3016080" cy="6574680"/>
            <a:chOff x="4451400" y="195120"/>
            <a:chExt cx="3016080" cy="6574680"/>
          </a:xfrm>
        </p:grpSpPr>
        <p:pic>
          <p:nvPicPr>
            <p:cNvPr id="133" name="5" descr=""/>
            <p:cNvPicPr/>
            <p:nvPr/>
          </p:nvPicPr>
          <p:blipFill>
            <a:blip r:embed="rId6"/>
            <a:stretch/>
          </p:blipFill>
          <p:spPr>
            <a:xfrm>
              <a:off x="6748560" y="5486400"/>
              <a:ext cx="718920" cy="1023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4" name=""/>
            <p:cNvCxnSpPr>
              <a:stCxn id="135" idx="2"/>
              <a:endCxn id="133" idx="2"/>
            </p:cNvCxnSpPr>
            <p:nvPr/>
          </p:nvCxnSpPr>
          <p:spPr>
            <a:xfrm flipH="1" rot="16200000">
              <a:off x="6132600" y="5533560"/>
              <a:ext cx="2160" cy="1951920"/>
            </a:xfrm>
            <a:prstGeom prst="curvedConnector5">
              <a:avLst>
                <a:gd name="adj1" fmla="val 14500000"/>
                <a:gd name="adj2" fmla="val 49990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pic>
          <p:nvPicPr>
            <p:cNvPr id="136" name="5" descr=""/>
            <p:cNvPicPr/>
            <p:nvPr/>
          </p:nvPicPr>
          <p:blipFill>
            <a:blip r:embed="rId7"/>
            <a:stretch/>
          </p:blipFill>
          <p:spPr>
            <a:xfrm>
              <a:off x="4952880" y="195120"/>
              <a:ext cx="7192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451400" y="727200"/>
              <a:ext cx="372960" cy="1440"/>
            </a:xfrm>
            <a:custGeom>
              <a:avLst/>
              <a:gdLst/>
              <a:ahLst/>
              <a:rect l="l" t="t" r="r" b="b"/>
              <a:pathLst>
                <a:path w="235" h="1">
                  <a:moveTo>
                    <a:pt x="0" y="0"/>
                  </a:moveTo>
                  <a:lnTo>
                    <a:pt x="235" y="0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666880" y="5410080"/>
            <a:ext cx="914400" cy="114300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410080"/>
            <a:ext cx="9144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57040" y="1432080"/>
            <a:ext cx="2225880" cy="5060880"/>
            <a:chOff x="2057040" y="1432080"/>
            <a:chExt cx="2225880" cy="5060880"/>
          </a:xfrm>
        </p:grpSpPr>
        <p:pic>
          <p:nvPicPr>
            <p:cNvPr id="141" name="4" descr=""/>
            <p:cNvPicPr/>
            <p:nvPr/>
          </p:nvPicPr>
          <p:blipFill>
            <a:blip r:embed="rId8"/>
            <a:stretch/>
          </p:blipFill>
          <p:spPr>
            <a:xfrm>
              <a:off x="2803680" y="5486400"/>
              <a:ext cx="701640" cy="1006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2" name=""/>
            <p:cNvCxnSpPr>
              <a:stCxn id="121" idx="0"/>
              <a:endCxn id="141" idx="0"/>
            </p:cNvCxnSpPr>
            <p:nvPr/>
          </p:nvCxnSpPr>
          <p:spPr>
            <a:xfrm flipH="1" rot="16200000">
              <a:off x="2557800" y="4889160"/>
              <a:ext cx="96120" cy="1097640"/>
            </a:xfrm>
            <a:prstGeom prst="curvedConnector5">
              <a:avLst>
                <a:gd name="adj1" fmla="val -137969"/>
                <a:gd name="adj2" fmla="val 50000"/>
                <a:gd name="adj3" fmla="val -13796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pic>
          <p:nvPicPr>
            <p:cNvPr id="143" name="4" descr=""/>
            <p:cNvPicPr/>
            <p:nvPr/>
          </p:nvPicPr>
          <p:blipFill>
            <a:blip r:embed="rId9"/>
            <a:stretch/>
          </p:blipFill>
          <p:spPr>
            <a:xfrm>
              <a:off x="3581280" y="1432080"/>
              <a:ext cx="70164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147840" y="1898640"/>
              <a:ext cx="390600" cy="1440"/>
            </a:xfrm>
            <a:custGeom>
              <a:avLst/>
              <a:gdLst/>
              <a:ahLst/>
              <a:rect l="l" t="t" r="r" b="b"/>
              <a:pathLst>
                <a:path w="246" h="1">
                  <a:moveTo>
                    <a:pt x="0" y="0"/>
                  </a:moveTo>
                  <a:lnTo>
                    <a:pt x="246" y="0"/>
                  </a:lnTo>
                </a:path>
              </a:pathLst>
            </a:custGeom>
            <a:noFill/>
            <a:ln w="316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057400" y="196920"/>
            <a:ext cx="3505320" cy="6311880"/>
            <a:chOff x="2057400" y="196920"/>
            <a:chExt cx="3505320" cy="6311880"/>
          </a:xfrm>
        </p:grpSpPr>
        <p:pic>
          <p:nvPicPr>
            <p:cNvPr id="146" name="2" descr=""/>
            <p:cNvPicPr/>
            <p:nvPr/>
          </p:nvPicPr>
          <p:blipFill>
            <a:blip r:embed="rId10"/>
            <a:stretch/>
          </p:blipFill>
          <p:spPr>
            <a:xfrm>
              <a:off x="4753080" y="5486400"/>
              <a:ext cx="809640" cy="1022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7" name=""/>
            <p:cNvCxnSpPr>
              <a:stCxn id="121" idx="0"/>
              <a:endCxn id="146" idx="0"/>
            </p:cNvCxnSpPr>
            <p:nvPr/>
          </p:nvCxnSpPr>
          <p:spPr>
            <a:xfrm flipH="1" rot="16200000">
              <a:off x="3559680" y="3887280"/>
              <a:ext cx="96120" cy="3101040"/>
            </a:xfrm>
            <a:prstGeom prst="curvedConnector5">
              <a:avLst>
                <a:gd name="adj1" fmla="val -358270"/>
                <a:gd name="adj2" fmla="val 49994"/>
                <a:gd name="adj3" fmla="val -35827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pic>
          <p:nvPicPr>
            <p:cNvPr id="148" name="2" descr=""/>
            <p:cNvPicPr/>
            <p:nvPr/>
          </p:nvPicPr>
          <p:blipFill>
            <a:blip r:embed="rId11"/>
            <a:stretch/>
          </p:blipFill>
          <p:spPr>
            <a:xfrm>
              <a:off x="3581280" y="196920"/>
              <a:ext cx="8096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51080" y="1166760"/>
              <a:ext cx="395280" cy="276120"/>
            </a:xfrm>
            <a:custGeom>
              <a:avLst/>
              <a:gdLst/>
              <a:ahLst/>
              <a:rect l="l" t="t" r="r" b="b"/>
              <a:pathLst>
                <a:path w="249" h="174">
                  <a:moveTo>
                    <a:pt x="0" y="174"/>
                  </a:moveTo>
                  <a:lnTo>
                    <a:pt x="249" y="0"/>
                  </a:ln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154320" y="2403360"/>
            <a:ext cx="3322800" cy="4326120"/>
            <a:chOff x="3154320" y="2403360"/>
            <a:chExt cx="3322800" cy="4326120"/>
          </a:xfrm>
        </p:grpSpPr>
        <p:pic>
          <p:nvPicPr>
            <p:cNvPr id="151" name="6" descr=""/>
            <p:cNvPicPr/>
            <p:nvPr/>
          </p:nvPicPr>
          <p:blipFill>
            <a:blip r:embed="rId12"/>
            <a:stretch/>
          </p:blipFill>
          <p:spPr>
            <a:xfrm>
              <a:off x="5778360" y="5486400"/>
              <a:ext cx="698760" cy="995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52" name=""/>
            <p:cNvCxnSpPr>
              <a:stCxn id="141" idx="2"/>
              <a:endCxn id="151" idx="2"/>
            </p:cNvCxnSpPr>
            <p:nvPr/>
          </p:nvCxnSpPr>
          <p:spPr>
            <a:xfrm flipH="1" flipV="1" rot="5400000">
              <a:off x="4635360" y="5000040"/>
              <a:ext cx="11880" cy="2974320"/>
            </a:xfrm>
            <a:prstGeom prst="curvedConnector5">
              <a:avLst>
                <a:gd name="adj1" fmla="val -2056250"/>
                <a:gd name="adj2" fmla="val 49993"/>
                <a:gd name="adj3" fmla="val -205625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pic>
          <p:nvPicPr>
            <p:cNvPr id="153" name="6" descr=""/>
            <p:cNvPicPr/>
            <p:nvPr/>
          </p:nvPicPr>
          <p:blipFill>
            <a:blip r:embed="rId13"/>
            <a:stretch/>
          </p:blipFill>
          <p:spPr>
            <a:xfrm>
              <a:off x="4952880" y="2666880"/>
              <a:ext cx="69876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384800" y="2403360"/>
              <a:ext cx="423720" cy="292320"/>
            </a:xfrm>
            <a:custGeom>
              <a:avLst/>
              <a:gdLst/>
              <a:ahLst/>
              <a:rect l="l" t="t" r="r" b="b"/>
              <a:pathLst>
                <a:path w="267" h="184">
                  <a:moveTo>
                    <a:pt x="0" y="0"/>
                  </a:moveTo>
                  <a:lnTo>
                    <a:pt x="267" y="184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609480"/>
            <a:ext cx="17524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09:44:22Z</dcterms:created>
  <dc:creator>etudiant</dc:creator>
  <dc:description/>
  <dc:language>en-US</dc:language>
  <cp:lastModifiedBy>etudiant</cp:lastModifiedBy>
  <dcterms:modified xsi:type="dcterms:W3CDTF">2004-06-30T09:18:09Z</dcterms:modified>
  <cp:revision>19</cp:revision>
  <dc:subject/>
  <dc:title>Présentation PowerPoint</dc:title>
</cp:coreProperties>
</file>